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27A-751D-483B-B74D-AF11644C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taken from: http://www.huffingtonpost.com/2014/08/06/ebola-myths_n_56556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131-D014-439D-941B-9395D6BE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BA7-EFF5-47E6-9DE9-FC2700B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7F2-14CD-4DD0-BA95-672A194E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3C3-33E5-4244-9627-8D1DB007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49F-BB38-442C-9E1C-3BDC3ED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15E-54AB-4B95-9843-838853B2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8D6-9F5C-4FCB-B1EB-0FD1FBC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CD3-438F-4C73-AA4C-08D8B6CD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83-5628-4AD0-9350-D42F141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F7D-5772-49AF-96EA-2E433B1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00F-FDBD-4F14-9A7B-23A02ED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B6B-2B2E-4897-ADD0-49C5484E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4547-844E-4573-81C7-4392ABC6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dc.gov/vhf/ebola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for Diseas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has a detailed website about Ebo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vhf/ebo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21:58:33Z</dcterms:created>
  <dc:creator>rubina khan</dc:creator>
  <dc:description/>
  <dc:language>en-US</dc:language>
  <cp:lastModifiedBy>rubina khan</cp:lastModifiedBy>
  <dcterms:modified xsi:type="dcterms:W3CDTF">2014-09-13T22:12:17Z</dcterms:modified>
  <cp:revision>3</cp:revision>
  <dc:subject/>
  <dc:title>PowerPoint Presentation</dc:title>
</cp:coreProperties>
</file>